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E99B-FD8F-4CC1-99AB-AF4C70F95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B39D-DD95-487C-A931-C2B654F7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D479-C209-476F-80DE-FC8BF4F96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6C9F-E124-4BD0-8792-CE234EFCF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B3F3-C5A8-432C-AF0E-7902578BF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8786-F98A-48E0-A7BB-8C246539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64C7-DA8D-45DE-B457-11C251E1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5F30-5048-4226-BCA4-06724281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C06B-4D5C-4BCB-AF00-414F8889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07EA-CCCD-44CA-8C9D-AA9F8DC2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A981-07C4-4A4C-B024-7661E4EE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4671-F3C4-464E-843B-695403EB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A2E3-9341-4AB7-92A5-E3BAD58A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2E91-8175-4AFD-916C-6596024B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D289-AB7A-4E5E-BDD1-151C893F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6F64-AB7F-4C6B-9810-C1A81F618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DEB4-E5B6-4F6F-8D67-E58D9C728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D107-7FF2-448D-8575-71340347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6C96-D8CE-42A7-B8EC-B34B640D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E97F-3A0B-4D7D-A8C6-FC3A971F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CF15-CC93-4C87-ABD2-D59B74AE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3175-9957-445B-B880-4B685228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9B99-804B-4EF0-91F5-98BABB30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A7A7-8CF1-4DF4-9DAF-4F0CD49D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EEAF-2D18-44CA-9C01-F179B9B7948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3B54-8366-41B4-8BD5-EAA2E067989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第十二章  国际金融市场一体化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International financial Integr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第一节  国际金融市场一体化的涵义、原因及影响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一、国际金融市场一体化的涵义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各国金融市场从分散走向整体的过程与状态。包括三个层次的内涵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各国金融市场的关联链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linkages between marke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各国之间的交易手数和交易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number and volume of transac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利率决定机制与利率趋同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rate-setting mechanism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二、国际金融市场一体化的原因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国际经济的发展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技术进步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金融自由化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机构投资者投资需求变化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国际货币体系变化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6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金融创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三、国际金融市场一体化的影响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一）积极影响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加快了金融信息传递，提高了金融市场效率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扩大了金融资产选择性，满足了各种金融需求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扩大了金融资产的流动性，提高了资本配置效率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促进国际贸易，调节国际收支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二）消极影响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削弱了各国货币政策自主性，降低了政策效力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导致金融资产价格过度波动，增大风险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增加了金融市场脆弱性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第二节  国际金融市场一体化的内容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、金融市场关联链的形成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金融市场交易地理障碍的消除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金融市场中的资金清算系统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二、各类金融市场的一体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货币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国际外汇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短期资金融通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资本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国际债券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国际股票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中长期国际融资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金融衍生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三、国际金融市场资产价格的相关性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第三节  国际金融市场结构变化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、国际金融市场的体制结构及变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从体制上划分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传统国际金融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新型国际金融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金融市场的特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地理分布多样性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新型市场形成并迅速发展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二、国际金融市场的运行结构及变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主金融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次金融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外围金融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07:49:12Z</dcterms:created>
  <dc:creator>MS User</dc:creator>
  <dc:description/>
  <dc:language>en-US</dc:language>
  <cp:lastModifiedBy>Dell</cp:lastModifiedBy>
  <dcterms:modified xsi:type="dcterms:W3CDTF">2021-08-23T22:51:07Z</dcterms:modified>
  <cp:revision>13</cp:revision>
  <dc:subject/>
  <dc:title>第七章  国际金融市场一体化</dc:title>
</cp:coreProperties>
</file>